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A08D-C786-49E0-9BF8-0C8DD8B4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F581-4FAF-4C24-9C5E-C2CC9BC3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8647-8F46-4CC5-BE8A-E1A2ADCA6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C7C8-8624-4565-985A-CFC1136D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E330-F1A2-44C7-BC80-B9105775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078D-35AC-4269-B15C-708D27CA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B092-4B6E-4F4B-83DF-977D6BEC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B4F1-1AE7-4358-8327-5D6E59A1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8A5A-2380-405F-9D54-7FF6E482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D9F8-1BFA-4CFD-AEAB-6CFED7D3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CAC4-7424-4CA7-9E22-F32B1A2E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CA08-9A61-4CF4-A1D5-A32FA26D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8081-208C-4370-AE63-E7871EDF96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&#1092;&#1080;&#1083;&#1080;&#1085;.wav" TargetMode="External"/><Relationship Id="rId2" Type="http://schemas.microsoft.com/office/2007/relationships/media" Target="file:///tmp/home/.config/libreoffice/4/user/gallery/&#1092;&#1080;&#1083;&#1080;&#1085;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&#1084;&#1077;&#1076;&#1074;&#1077;&#1076;&#1100;.wav" TargetMode="External"/><Relationship Id="rId2" Type="http://schemas.microsoft.com/office/2007/relationships/media" Target="file:///tmp/home/.config/libreoffice/4/user/gallery/&#1084;&#1077;&#1076;&#1074;&#1077;&#1076;&#1100;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olf01.wav" TargetMode="External"/><Relationship Id="rId2" Type="http://schemas.microsoft.com/office/2007/relationships/media" Target="file:///tmp/home/.config/libreoffice/4/user/gallery/wolf01.wav" TargetMode="External"/><Relationship Id="rId3" Type="http://schemas.openxmlformats.org/officeDocument/2006/relationships/image" Target="../media/image2.png"/><Relationship Id="rId4" Type="http://schemas.openxmlformats.org/officeDocument/2006/relationships/audio" Target="file:///tmp/home/.config/libreoffice/4/user/gallery/wolfgav.wav" TargetMode="External"/><Relationship Id="rId5" Type="http://schemas.microsoft.com/office/2007/relationships/media" Target="file:///tmp/home/.config/libreoffice/4/user/gallery/wolfgav.wav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&#1083;&#1080;&#1089;&#1099;.wav" TargetMode="External"/><Relationship Id="rId2" Type="http://schemas.microsoft.com/office/2007/relationships/media" Target="file:///tmp/home/.config/libreoffice/4/user/gallery/&#1083;&#1080;&#1089;&#1099;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&#1083;&#1086;&#1089;&#1100;.wav" TargetMode="External"/><Relationship Id="rId2" Type="http://schemas.microsoft.com/office/2007/relationships/media" Target="file:///tmp/home/.config/libreoffice/4/user/gallery/&#1083;&#1086;&#1089;&#1100;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&#1077;&#1085;&#1086;&#1090;.wav" TargetMode="External"/><Relationship Id="rId2" Type="http://schemas.microsoft.com/office/2007/relationships/media" Target="file:///tmp/home/.config/libreoffice/4/user/gallery/&#1077;&#1085;&#1086;&#1090;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forest.wav" TargetMode="External"/><Relationship Id="rId3" Type="http://schemas.microsoft.com/office/2007/relationships/media" Target="file:///tmp/home/.config/libreoffice/4/user/gallery/forest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kuku.wav" TargetMode="External"/><Relationship Id="rId2" Type="http://schemas.microsoft.com/office/2007/relationships/media" Target="file:///tmp/home/.config/libreoffice/4/user/gallery/kuku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&#1076;&#1103;&#1090;&#1077;&#1083;.wav" TargetMode="External"/><Relationship Id="rId2" Type="http://schemas.microsoft.com/office/2007/relationships/media" Target="file:///tmp/home/.config/libreoffice/4/user/gallery/&#1076;&#1103;&#1090;&#1077;&#1083;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sinica.wav" TargetMode="External"/><Relationship Id="rId2" Type="http://schemas.microsoft.com/office/2007/relationships/media" Target="file:///tmp/home/.config/libreoffice/4/user/gallery/sinica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row2.wav" TargetMode="External"/><Relationship Id="rId2" Type="http://schemas.microsoft.com/office/2007/relationships/media" Target="file:///tmp/home/.config/libreoffice/4/user/gallery/crow2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&#1089;&#1086;&#1083;&#1086;&#1074;&#1077;&#1081;2.wav" TargetMode="External"/><Relationship Id="rId2" Type="http://schemas.microsoft.com/office/2007/relationships/media" Target="file:///tmp/home/.config/libreoffice/4/user/gallery/&#1089;&#1086;&#1083;&#1086;&#1074;&#1077;&#1081;2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file:///tmp/home/.config/libreoffice/4/user/gallery/&#1078;&#1072;&#1074;&#1086;&#1088;&#1086;&#1085;&#1086;&#1082;.wav" TargetMode="External"/><Relationship Id="rId3" Type="http://schemas.microsoft.com/office/2007/relationships/media" Target="file:///tmp/home/.config/libreoffice/4/user/gallery/&#1078;&#1072;&#1074;&#1086;&#1088;&#1086;&#1085;&#1086;&#1082;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file:///tmp/home/.config/libreoffice/4/user/gallery/&#1089;&#1082;&#1074;&#1086;&#1088;&#1077;&#1094;.wav" TargetMode="External"/><Relationship Id="rId3" Type="http://schemas.microsoft.com/office/2007/relationships/media" Target="file:///tmp/home/.config/libreoffice/4/user/gallery/&#1089;&#1082;&#1074;&#1086;&#1088;&#1077;&#1094;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23640" y="2057400"/>
            <a:ext cx="686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8000"/>
                </a:solidFill>
                <a:latin typeface="Times New Roman"/>
              </a:rPr>
              <a:t>Лес и его голос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534520" y="228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270px-CRW_2987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4062600" cy="6095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031360" y="5486400"/>
            <a:ext cx="359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так ухает гроза мыше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сная хищница с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640080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073160" y="5257800"/>
            <a:ext cx="71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лесу живут не только птицы, а и разные животны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ольшие и маленькие. Послушай, как рыч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солапый бурый ми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2200" descr=""/>
          <p:cNvPicPr/>
          <p:nvPr/>
        </p:nvPicPr>
        <p:blipFill>
          <a:blip r:embed="rId4"/>
          <a:stretch/>
        </p:blipFill>
        <p:spPr>
          <a:xfrm>
            <a:off x="1752480" y="304920"/>
            <a:ext cx="57150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375920" y="5638680"/>
            <a:ext cx="674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так воет серый волк. А еще он умеет лаять, вед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н родственник соба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6858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6" name="волк" descr=""/>
          <p:cNvPicPr/>
          <p:nvPr/>
        </p:nvPicPr>
        <p:blipFill>
          <a:blip r:embed="rId7"/>
          <a:stretch/>
        </p:blipFill>
        <p:spPr>
          <a:xfrm>
            <a:off x="1143000" y="3049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335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431880" y="5867280"/>
            <a:ext cx="26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так лают лиси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ис" descr=""/>
          <p:cNvPicPr/>
          <p:nvPr/>
        </p:nvPicPr>
        <p:blipFill>
          <a:blip r:embed="rId4"/>
          <a:stretch/>
        </p:blipFill>
        <p:spPr>
          <a:xfrm>
            <a:off x="1066680" y="4572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10480" y="22860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51200" y="4876920"/>
            <a:ext cx="420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это голос могучего ло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ворят, что лось труб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да похоже, что неумелы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зыкант дует в труб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Безымянный" descr=""/>
          <p:cNvPicPr/>
          <p:nvPr/>
        </p:nvPicPr>
        <p:blipFill>
          <a:blip r:embed="rId4"/>
          <a:stretch/>
        </p:blipFill>
        <p:spPr>
          <a:xfrm>
            <a:off x="304920" y="304920"/>
            <a:ext cx="40892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10480" y="3049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84" name="enot2" descr=""/>
          <p:cNvPicPr/>
          <p:nvPr/>
        </p:nvPicPr>
        <p:blipFill>
          <a:blip r:embed="rId4"/>
          <a:stretch/>
        </p:blipFill>
        <p:spPr>
          <a:xfrm>
            <a:off x="380880" y="380880"/>
            <a:ext cx="3278160" cy="6096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345920" y="5562720"/>
            <a:ext cx="42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 маленького пушистого ен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оже свой голо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олень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696080" cy="5130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364480" y="5867280"/>
            <a:ext cx="48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еще в лесу живет красавец-олен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6_6_b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467840" cy="56199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583440" y="609588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лючий ежик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елка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086600" cy="5314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734640" y="594360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ыжая белочк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яц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131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79600" y="59436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ушистый зайчи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osni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467840" cy="5600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76600" y="5791320"/>
            <a:ext cx="73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авай прогуляемся с тобой в лес. Узнаем, какие пти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животные здесь живут и послушаем их голос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41920" y="5638680"/>
            <a:ext cx="73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у-ка, прислушайся. Чей это голо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 кукует лес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тица куку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image008" descr=""/>
          <p:cNvPicPr/>
          <p:nvPr/>
        </p:nvPicPr>
        <p:blipFill>
          <a:blip r:embed="rId4"/>
          <a:stretch/>
        </p:blipFill>
        <p:spPr>
          <a:xfrm>
            <a:off x="990720" y="457200"/>
            <a:ext cx="7086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4120" y="4572000"/>
            <a:ext cx="358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это что за треск стоит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с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ак стучит свои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епким клювом дяте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 достает из-под кор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секомых себе на обе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daitel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47055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640080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9200" y="5943600"/>
            <a:ext cx="69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эт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вени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иничка, радуется солнышку и тепл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sinica" descr=""/>
          <p:cNvPicPr/>
          <p:nvPr/>
        </p:nvPicPr>
        <p:blipFill>
          <a:blip r:embed="rId4"/>
          <a:stretch/>
        </p:blipFill>
        <p:spPr>
          <a:xfrm>
            <a:off x="1143000" y="38088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7480" y="5943600"/>
            <a:ext cx="62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голос этой птицы узна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каркает вор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ворона%20copy" descr=""/>
          <p:cNvPicPr/>
          <p:nvPr/>
        </p:nvPicPr>
        <p:blipFill>
          <a:blip r:embed="rId4"/>
          <a:stretch/>
        </p:blipFill>
        <p:spPr>
          <a:xfrm>
            <a:off x="838080" y="380880"/>
            <a:ext cx="746784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8188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639400" y="5334120"/>
            <a:ext cx="288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ак поет-зали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ловей, серенька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приметная птич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nightingale1" descr=""/>
          <p:cNvPicPr/>
          <p:nvPr/>
        </p:nvPicPr>
        <p:blipFill>
          <a:blip r:embed="rId4"/>
          <a:stretch/>
        </p:blipFill>
        <p:spPr>
          <a:xfrm>
            <a:off x="457200" y="304920"/>
            <a:ext cx="48909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galerida_cristata_grested_lark_KJ7T5690_out_j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5410080" cy="5398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22040" y="6019920"/>
            <a:ext cx="35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так щебечет жаворо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Безымянный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315200" cy="5114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65240" y="575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5638680"/>
            <a:ext cx="686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т еще один знаменитый птичий певец – скворе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слушай, какие трели он вывод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08:01:42Z</dcterms:created>
  <dc:creator>Юлия Каспарова</dc:creator>
  <dc:description/>
  <dc:language>en-US</dc:language>
  <cp:lastModifiedBy>dmitry</cp:lastModifiedBy>
  <dcterms:modified xsi:type="dcterms:W3CDTF">2006-04-03T08:02:32Z</dcterms:modified>
  <cp:revision>1</cp:revision>
  <dc:subject/>
  <dc:title>Лес и его голоса</dc:title>
</cp:coreProperties>
</file>